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13B5-A50E-43A5-80D9-2730A3514FF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5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84C8-4542-4C41-9DB2-1E027AC21F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5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1462B-B9FF-417B-97C0-9E4EE007CC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5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DABAF-3ED7-4603-A2F8-A225B1CF19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CC55-352C-45F5-8D84-25C3E13E4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AF4-B7B4-47F6-8693-1CAFC816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880D-1670-415C-9CEE-EA10DA68D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9C0-2208-4FF1-B98C-009F69AD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56A6-B700-43D9-92F5-C7EE4C35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5A17-F2E9-4743-997F-A8D555FB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C707-2B5C-415E-8B0A-EC99115D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7D79-0DE5-4941-897E-92565C7F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39B6-F719-4D19-99E9-E087922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2564-7CE8-41E2-8B68-F177C800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B2F-C19A-4EA2-AD8A-4FFC25C5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611D-8D0E-4A07-B801-FF96E663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147D-8459-4D0E-9593-7BBE4C5F683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E3C01-D2FC-42BE-A54C-E5803C4DE5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6" descr=""/>
          <p:cNvPicPr/>
          <p:nvPr/>
        </p:nvPicPr>
        <p:blipFill>
          <a:blip r:embed="rId2"/>
          <a:stretch/>
        </p:blipFill>
        <p:spPr>
          <a:xfrm>
            <a:off x="0" y="-3240"/>
            <a:ext cx="8515440" cy="83844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6"/>
          <p:cNvSpPr/>
          <p:nvPr/>
        </p:nvSpPr>
        <p:spPr>
          <a:xfrm>
            <a:off x="8218440" y="6656400"/>
            <a:ext cx="225360" cy="46080"/>
          </a:xfrm>
          <a:prstGeom prst="rect">
            <a:avLst/>
          </a:prstGeom>
          <a:solidFill>
            <a:srgbClr val="003f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10"/>
          <p:cNvSpPr/>
          <p:nvPr/>
        </p:nvSpPr>
        <p:spPr>
          <a:xfrm>
            <a:off x="463680" y="6356520"/>
            <a:ext cx="7980120" cy="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8147160" y="6356520"/>
            <a:ext cx="368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E020A-EFE4-48E8-A7B9-08EA84702F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Рисунок 1" descr=""/>
          <p:cNvPicPr/>
          <p:nvPr/>
        </p:nvPicPr>
        <p:blipFill>
          <a:blip r:embed="rId1"/>
          <a:srcRect l="0" t="7335" r="31752" b="29001"/>
          <a:stretch/>
        </p:blipFill>
        <p:spPr>
          <a:xfrm>
            <a:off x="4240080" y="-3240"/>
            <a:ext cx="4903920" cy="686124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5"/>
          <p:cNvSpPr/>
          <p:nvPr/>
        </p:nvSpPr>
        <p:spPr>
          <a:xfrm>
            <a:off x="324000" y="608040"/>
            <a:ext cx="54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6bd"/>
                </a:solidFill>
                <a:latin typeface="Century Gothic"/>
              </a:rPr>
              <a:t>О запуске портфеля проектов «Формирование здорового образа жизн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50920" y="4005360"/>
            <a:ext cx="46591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6bd"/>
                </a:solidFill>
                <a:latin typeface="Century Gothic"/>
                <a:ea typeface="Tahoma"/>
              </a:rPr>
              <a:t>Докладч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Кольцов Всеволод Станиславович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заместитель Губернатора Ханты-Мансийского автономного округа – Югры, куратор портфеля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76bd"/>
                </a:solidFill>
                <a:latin typeface="Century Gothic"/>
              </a:rPr>
              <a:t>Комментиру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entury Gothic"/>
              </a:rPr>
              <a:t>Каданцев Валерий Алексееви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председатель Общественного сов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при Департаменте здравоохра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Ханты-Мансийского автономного округа – Югр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0920" y="115560"/>
            <a:ext cx="7215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Vida 32 Pro"/>
              </a:rPr>
              <a:t>Портфель проектов «Формирование 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22680" y="1341360"/>
            <a:ext cx="65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Vida 32 Pro"/>
              </a:rPr>
              <a:t>ЦЕЛЕВЫЕ ПОКАЗАТЕЛИ 2025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3214800" y="915840"/>
            <a:ext cx="506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  <a:ea typeface="Vida 22 Pro"/>
              </a:rPr>
              <a:t>Куратор: Кольцов В.С.      Руководитель: Добровольский А.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3"/>
          <p:cNvSpPr/>
          <p:nvPr/>
        </p:nvSpPr>
        <p:spPr>
          <a:xfrm>
            <a:off x="2643120" y="50007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раждан с артериальной гипертензией, контролирующих свое артериальное д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24"/>
          <p:cNvSpPr/>
          <p:nvPr/>
        </p:nvSpPr>
        <p:spPr>
          <a:xfrm>
            <a:off x="357120" y="20718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6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6443640"/>
            <a:ext cx="7212240" cy="2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Century Gothic"/>
                <a:ea typeface="Vida 32 Pro"/>
              </a:rPr>
              <a:t>«Формирование здорового образа жизн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Прямоугольник 7"/>
          <p:cNvSpPr/>
          <p:nvPr/>
        </p:nvSpPr>
        <p:spPr>
          <a:xfrm>
            <a:off x="357120" y="300024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27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11"/>
          <p:cNvSpPr/>
          <p:nvPr/>
        </p:nvSpPr>
        <p:spPr>
          <a:xfrm>
            <a:off x="2643120" y="2000160"/>
            <a:ext cx="6335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Граждан приверженных здоровому образу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285840" y="4929120"/>
            <a:ext cx="1752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55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6"/>
          <p:cNvSpPr/>
          <p:nvPr/>
        </p:nvSpPr>
        <p:spPr>
          <a:xfrm>
            <a:off x="2643120" y="3143160"/>
            <a:ext cx="624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Потребление табака среди взрослого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7"/>
          <p:cNvSpPr/>
          <p:nvPr/>
        </p:nvSpPr>
        <p:spPr>
          <a:xfrm>
            <a:off x="500040" y="3929040"/>
            <a:ext cx="192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6bd"/>
                </a:solidFill>
                <a:latin typeface="Century Gothic"/>
              </a:rPr>
              <a:t>28,4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16"/>
          <p:cNvSpPr/>
          <p:nvPr/>
        </p:nvSpPr>
        <p:spPr>
          <a:xfrm>
            <a:off x="2643120" y="4143240"/>
            <a:ext cx="6248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Распространенность ожи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880" y="6443640"/>
            <a:ext cx="7212240" cy="2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Century Gothic"/>
                <a:ea typeface="Vida 32 Pro"/>
              </a:rPr>
              <a:t>«Формирование здорового образа жизн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14"/>
          <p:cNvSpPr/>
          <p:nvPr/>
        </p:nvSpPr>
        <p:spPr>
          <a:xfrm>
            <a:off x="91440" y="1341360"/>
            <a:ext cx="528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Vida 32 Pro"/>
              </a:rPr>
              <a:t>КЛЮЧЕВЫЕ УЧАСТ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5"/>
          <p:cNvSpPr/>
          <p:nvPr/>
        </p:nvSpPr>
        <p:spPr>
          <a:xfrm>
            <a:off x="395280" y="2133720"/>
            <a:ext cx="831996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4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 МЕДИЦИНСКИЕ ОРГАНИЗАЦИИ ХАНТЫ-МАНСИЙСКОГО АВТОНОМНОГО ОКРУГА-ЮГРЫ, ИМЕЮЩИЕ ПРИКРЕПЛЕННОЕ НАСЕЛ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БЮДЖЕТНОЕ УЧЕРЕЖДЕНИЕ ХАНТЫ-МАНСИЙСКОГО АВТОНОМНОГО ОКРУГА-ЮГРЫ «ЦЕНТР МЕДИЦИНСКОЙ ПРОФИЛАКТИК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СОЦИАЛЬНО-ОРИЕНТИРОВАННЫЕ НЕКОМЕРЧЕСКИЕ ОРГАНИЗАЦИИ ХАНТЫ-МАНСИЙСКОГО АВТОНОМНОГО ОКРУГА-Ю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  <a:ea typeface="Vida 32 Pro"/>
              </a:rPr>
              <a:t>ДЕПАРТАМЕНТ ЗДРАВООХРАНЕНИЯ ХАНТЫ-МАНСИЙСКОГО АВТОНОМНОГО ОКРУГА-ЮГ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7215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Vida 32 Pro"/>
              </a:rPr>
              <a:t>Портфель проектов «Формирование 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880" y="6443640"/>
            <a:ext cx="7212240" cy="24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fbfbf"/>
                </a:solidFill>
                <a:latin typeface="Century Gothic"/>
                <a:ea typeface="Vida 32 Pro"/>
              </a:rPr>
              <a:t>«Формирование здорового образа жизни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Прямоугольник 14"/>
          <p:cNvSpPr/>
          <p:nvPr/>
        </p:nvSpPr>
        <p:spPr>
          <a:xfrm>
            <a:off x="146160" y="1341360"/>
            <a:ext cx="71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entury Gothic"/>
                <a:ea typeface="Vida 32 Pro"/>
              </a:rPr>
              <a:t>ФИНАНСОВАЯ ОБЕСПЕЧ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250920" y="115560"/>
            <a:ext cx="7215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  <a:ea typeface="Vida 32 Pro"/>
              </a:rPr>
              <a:t>Портфель проектов «Формирование здорового образа жизн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060640"/>
          <a:ext cx="8367840" cy="4281480"/>
        </p:xfrm>
        <a:graphic>
          <a:graphicData uri="http://schemas.openxmlformats.org/drawingml/2006/table">
            <a:tbl>
              <a:tblPr/>
              <a:tblGrid>
                <a:gridCol w="3421080"/>
                <a:gridCol w="1198800"/>
                <a:gridCol w="1214280"/>
                <a:gridCol w="1285920"/>
                <a:gridCol w="1247760"/>
              </a:tblGrid>
              <a:tr h="449280">
                <a:tc>
                  <a:txBody>
                    <a:bodyPr lIns="87120" rIns="87120" tIns="43560" bIns="435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7120" marR="87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21 - 2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" rIns="9000" tIns="9000" bIns="0" anchor="ctr">
                      <a:noAutofit/>
                    </a:bodyPr>
                    <a:p>
                      <a:pPr marL="18252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отребность в бюджетном финансировании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</a:t>
                      </a: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34 8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48</a:t>
                      </a: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748</a:t>
                      </a: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b050"/>
                          </a:solidFill>
                          <a:latin typeface="Century Gothic"/>
                        </a:rPr>
                        <a:t>Утвержд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0328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едеральны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гиональный бюджет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  <a:ea typeface="Calibri"/>
                        </a:rPr>
                        <a:t>(текущее финансирование                      БУ «Центр медицинской профилактики»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6 964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34  82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48 748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" rIns="9000" tIns="900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Century Gothic"/>
                        </a:rPr>
                        <a:t>Дефиц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4776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Федеральны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" rIns="9000" tIns="9000" bIns="0" anchor="ctr">
                      <a:noAutofit/>
                    </a:bodyPr>
                    <a:p>
                      <a:pPr marL="179280" indent="36036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Региональный бюдж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bfbfbf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" rIns="9000" tIns="9000" bIns="0" anchor="ctr">
                      <a:noAutofit/>
                    </a:bodyPr>
                    <a:p>
                      <a:pPr marL="182520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6bd"/>
                          </a:solidFill>
                          <a:latin typeface="Century Gothic"/>
                        </a:rPr>
                        <a:t>Потребность в привлеченных средствах, тыс. руб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bfbfb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2:35:12Z</dcterms:created>
  <dc:creator>user</dc:creator>
  <dc:description/>
  <dc:language>en-US</dc:language>
  <cp:lastModifiedBy>bil-va</cp:lastModifiedBy>
  <cp:lastPrinted>2018-03-15T12:30:05Z</cp:lastPrinted>
  <dcterms:modified xsi:type="dcterms:W3CDTF">2018-04-23T12:43:43Z</dcterms:modified>
  <cp:revision>2114</cp:revision>
  <dc:subject/>
  <dc:title>Презентация PowerPoint</dc:title>
</cp:coreProperties>
</file>